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E79-B04E-46D9-9AA9-6FFE276E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B28-BD23-44EE-9064-B5377B70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BEC-C5CB-4D48-BD53-5BDD3A32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6B0-83E2-4352-8974-64E5E363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DFB-48C8-4E2C-9D8E-7EC87AF3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40B-4484-4051-A169-7488D7ED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E50-00F9-4DE9-B4C7-A82AA233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0E2-F6AD-43B1-AD9F-A0D6346B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6E6-4E75-4639-B30F-2EDC08DC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EC2-C5F9-4D5B-A650-C57C02A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AEC-11D0-4FB6-8C3D-41FF953B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2E1-D929-4A6A-AC39-FA60B3C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8555-7B54-44DD-B4C3-7F390D90084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620640"/>
            <a:ext cx="8291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әерле көн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96400" y="1700280"/>
            <a:ext cx="785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җүләр! Кысканга былтыр, кычкыралармы быел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39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 әбидән дә качтым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 бабайдан да качтым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 бүредән дә качтым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нән дә кача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2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2349000"/>
            <a:ext cx="8642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йдәле, Акбай! Өйрән син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 аягың белән тор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ма, аума! Төз утыр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1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39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яктылыкка, нурга илтә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82296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а карга дигән әй, асыл кош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үбә иттең мәллә очмас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368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булдырабыз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ана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к-тук-тук! Терем-терем, теремкәй! Теремкәйдә кем яш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ңа 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җүләр! Кысканга былтыр, кычкыралармы бые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 әбидән дә качтым, мин бабайдан да качтым, бүредән дә качтым! Синнән дә кача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йдәле, Акбай! Өйрән син, арт аягың белән т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ма, аума! Төз утыр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яктылыкка, нурга илтә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а карга дигән әй, асыл кош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үбә иттең мәллә очмас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6600" y="1557360"/>
            <a:ext cx="79308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ерсив театр алымы аша әдәбият дәресләрендә укучыларның иҗади сәләтләрен үстер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ләче муниципаль районы муниципаль бюджет гомуми белем бирү учреждениесе - Олы Нырсы урта гомуми белем бирү мәктәбенең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тар теле һәм әдәбияты укытучы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а Гүзәл Хәмзә кы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иәсгар Кам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НЧЕ ТЕАТР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3384360" cy="2776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4629240" y="336384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5545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52600"/>
            <a:ext cx="829152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анас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1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822960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к-тук-тук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ем-терем, теремкәй! Теремкәйдә кем яш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1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5035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87280" y="1417320"/>
            <a:ext cx="7499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ңа ел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822960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3:42:23Z</dcterms:created>
  <dc:creator>Admin</dc:creator>
  <dc:description/>
  <dc:language>en-US</dc:language>
  <cp:lastModifiedBy>Рим</cp:lastModifiedBy>
  <dcterms:modified xsi:type="dcterms:W3CDTF">2021-12-04T15:44:51Z</dcterms:modified>
  <cp:revision>174</cp:revision>
  <dc:subject/>
  <dc:title>Слайд 1</dc:title>
</cp:coreProperties>
</file>